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8.jpeg" ContentType="image/jpeg"/>
  <Override PartName="/ppt/media/image1.png" ContentType="image/png"/>
  <Override PartName="/ppt/media/image52.jpeg" ContentType="image/jpeg"/>
  <Override PartName="/ppt/media/image34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7.png" ContentType="image/png"/>
  <Override PartName="/ppt/media/image62.jpeg" ContentType="image/jpeg"/>
  <Override PartName="/ppt/media/image56.jpeg" ContentType="image/jpeg"/>
  <Override PartName="/ppt/media/image3.png" ContentType="image/png"/>
  <Override PartName="/ppt/media/image18.jpeg" ContentType="image/jpeg"/>
  <Override PartName="/ppt/media/image64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61.jpeg" ContentType="image/jpeg"/>
  <Override PartName="/ppt/media/image29.jpeg" ContentType="image/jpeg"/>
  <Override PartName="/ppt/media/image12.jpeg" ContentType="image/jpeg"/>
  <Override PartName="/ppt/media/image50.jpeg" ContentType="image/jpeg"/>
  <Override PartName="/ppt/media/image60.jpeg" ContentType="image/jpeg"/>
  <Override PartName="/ppt/media/image37.jpeg" ContentType="image/jpeg"/>
  <Override PartName="/ppt/media/image51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63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39.jpeg" ContentType="image/jpeg"/>
  <Override PartName="/ppt/media/image2.gif" ContentType="image/gif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16.jpeg" ContentType="image/jpeg"/>
  <Override PartName="/ppt/media/image4.png" ContentType="image/png"/>
  <Override PartName="/ppt/media/image13.gif" ContentType="image/gif"/>
  <Override PartName="/ppt/media/image48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36.jpeg" ContentType="image/jpeg"/>
  <Override PartName="/ppt/media/image40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B1F7-A610-4C9A-A512-8F97DB1A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1225-7CAB-4B8B-AA00-264AB314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802-E7FC-4731-A3AE-67C757F2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309-49D4-4268-8A5C-5278826B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F3E-3EBE-4388-BB87-F951B7D1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C1D-0F6E-4E68-A788-8714C2BE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1025-2399-4F6E-ADDD-BA229DE9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A428-8A9E-4438-B1D5-4CDEFF73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BF2D-D637-424C-A72C-DC63DE34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48A-9DF0-4AB6-8C66-976E80B8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272F-F6B1-4511-BADA-E8006418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E874-1D82-4F8D-8314-0A71DF13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CC14-4170-495D-A62C-51A617F8BB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file:///tmp/home/.config/libreoffice/4/user/gallery/BRD_M15.WAV" TargetMode="External"/><Relationship Id="rId3" Type="http://schemas.openxmlformats.org/officeDocument/2006/relationships/image" Target="../media/image26.jpeg"/><Relationship Id="rId4" Type="http://schemas.openxmlformats.org/officeDocument/2006/relationships/hyperlink" Target="file:///tmp/home/.config/libreoffice/4/user/gallery/BRD_M15.WAV" TargetMode="External"/><Relationship Id="rId5" Type="http://schemas.openxmlformats.org/officeDocument/2006/relationships/image" Target="../media/image27.jpeg"/><Relationship Id="rId6" Type="http://schemas.openxmlformats.org/officeDocument/2006/relationships/hyperlink" Target="file:///tmp/home/.config/libreoffice/4/user/gallery/BRD_P16.WAV" TargetMode="External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D_M15.WAV" TargetMode="External"/><Relationship Id="rId2" Type="http://schemas.openxmlformats.org/officeDocument/2006/relationships/image" Target="../media/image30.jpeg"/><Relationship Id="rId3" Type="http://schemas.openxmlformats.org/officeDocument/2006/relationships/hyperlink" Target="file:///tmp/home/.config/libreoffice/4/user/gallery/BRD_M15.WAV" TargetMode="External"/><Relationship Id="rId4" Type="http://schemas.openxmlformats.org/officeDocument/2006/relationships/image" Target="../media/image31.jpeg"/><Relationship Id="rId5" Type="http://schemas.openxmlformats.org/officeDocument/2006/relationships/hyperlink" Target="file:///tmp/home/.config/libreoffice/4/user/gallery/BRD_P16.WAV" TargetMode="External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file:///tmp/home/.config/libreoffice/4/user/gallery/BRD_M15.WAV" TargetMode="External"/><Relationship Id="rId3" Type="http://schemas.openxmlformats.org/officeDocument/2006/relationships/image" Target="../media/image36.jpeg"/><Relationship Id="rId4" Type="http://schemas.openxmlformats.org/officeDocument/2006/relationships/hyperlink" Target="file:///tmp/home/.config/libreoffice/4/user/gallery/BRD_M15.WAV" TargetMode="External"/><Relationship Id="rId5" Type="http://schemas.openxmlformats.org/officeDocument/2006/relationships/image" Target="../media/image37.jpeg"/><Relationship Id="rId6" Type="http://schemas.openxmlformats.org/officeDocument/2006/relationships/hyperlink" Target="file:///tmp/home/.config/libreoffice/4/user/gallery/BRD_P16.WAV" TargetMode="External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D_P16.WAV" TargetMode="External"/><Relationship Id="rId2" Type="http://schemas.openxmlformats.org/officeDocument/2006/relationships/image" Target="../media/image40.jpeg"/><Relationship Id="rId3" Type="http://schemas.openxmlformats.org/officeDocument/2006/relationships/hyperlink" Target="file:///tmp/home/.config/libreoffice/4/user/gallery/BRD_M15.WAV" TargetMode="External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hyperlink" Target="file:///tmp/home/.config/libreoffice/4/user/gallery/BRD_M15.WAV" TargetMode="External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file:///tmp/home/.config/libreoffice/4/user/gallery/BRD_P16.WAV" TargetMode="External"/><Relationship Id="rId3" Type="http://schemas.openxmlformats.org/officeDocument/2006/relationships/image" Target="../media/image46.jpeg"/><Relationship Id="rId4" Type="http://schemas.openxmlformats.org/officeDocument/2006/relationships/hyperlink" Target="file:///tmp/home/.config/libreoffice/4/user/gallery/BRD_M15.WAV" TargetMode="External"/><Relationship Id="rId5" Type="http://schemas.openxmlformats.org/officeDocument/2006/relationships/image" Target="../media/image47.jpeg"/><Relationship Id="rId6" Type="http://schemas.openxmlformats.org/officeDocument/2006/relationships/hyperlink" Target="file:///tmp/home/.config/libreoffice/4/user/gallery/BRD_M15.WAV" TargetMode="External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tmp/home/.config/libreoffice/4/user/gallery/BRD_P16.WAV" TargetMode="External"/><Relationship Id="rId3" Type="http://schemas.openxmlformats.org/officeDocument/2006/relationships/image" Target="../media/image9.jpeg"/><Relationship Id="rId4" Type="http://schemas.openxmlformats.org/officeDocument/2006/relationships/hyperlink" Target="file:///tmp/home/.config/libreoffice/4/user/gallery/BRD_M15.WAV" TargetMode="External"/><Relationship Id="rId5" Type="http://schemas.openxmlformats.org/officeDocument/2006/relationships/image" Target="../media/image10.jpeg"/><Relationship Id="rId6" Type="http://schemas.openxmlformats.org/officeDocument/2006/relationships/hyperlink" Target="file:///tmp/home/.config/libreoffice/4/user/gallery/BRD_M15.WAV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D_M15.WAV" TargetMode="External"/><Relationship Id="rId2" Type="http://schemas.openxmlformats.org/officeDocument/2006/relationships/image" Target="../media/image50.jpeg"/><Relationship Id="rId3" Type="http://schemas.openxmlformats.org/officeDocument/2006/relationships/hyperlink" Target="file:///tmp/home/.config/libreoffice/4/user/gallery/BRD_P16.WAV" TargetMode="External"/><Relationship Id="rId4" Type="http://schemas.openxmlformats.org/officeDocument/2006/relationships/image" Target="../media/image51.jpeg"/><Relationship Id="rId5" Type="http://schemas.openxmlformats.org/officeDocument/2006/relationships/hyperlink" Target="file:///tmp/home/.config/libreoffice/4/user/gallery/BRD_M15.WAV" TargetMode="External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D_P16.WAV" TargetMode="External"/><Relationship Id="rId2" Type="http://schemas.openxmlformats.org/officeDocument/2006/relationships/image" Target="../media/image55.jpeg"/><Relationship Id="rId3" Type="http://schemas.openxmlformats.org/officeDocument/2006/relationships/hyperlink" Target="file:///tmp/home/.config/libreoffice/4/user/gallery/BRD_M15.WAV" TargetMode="External"/><Relationship Id="rId4" Type="http://schemas.openxmlformats.org/officeDocument/2006/relationships/image" Target="../media/image56.jpeg"/><Relationship Id="rId5" Type="http://schemas.openxmlformats.org/officeDocument/2006/relationships/hyperlink" Target="file:///tmp/home/.config/libreoffice/4/user/gallery/BRD_M15.WAV" TargetMode="External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hyperlink" Target="file:///tmp/home/.config/libreoffice/4/user/gallery/BRD_M15.WAV" TargetMode="External"/><Relationship Id="rId3" Type="http://schemas.openxmlformats.org/officeDocument/2006/relationships/image" Target="../media/image61.jpeg"/><Relationship Id="rId4" Type="http://schemas.openxmlformats.org/officeDocument/2006/relationships/hyperlink" Target="file:///tmp/home/.config/libreoffice/4/user/gallery/BRD_P16.WAV" TargetMode="External"/><Relationship Id="rId5" Type="http://schemas.openxmlformats.org/officeDocument/2006/relationships/image" Target="../media/image62.jpeg"/><Relationship Id="rId6" Type="http://schemas.openxmlformats.org/officeDocument/2006/relationships/hyperlink" Target="file:///tmp/home/.config/libreoffice/4/user/gallery/BRD_M15.WAV" TargetMode="External"/><Relationship Id="rId7" Type="http://schemas.openxmlformats.org/officeDocument/2006/relationships/image" Target="../media/image63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RD_M15.WAV" TargetMode="External"/><Relationship Id="rId3" Type="http://schemas.openxmlformats.org/officeDocument/2006/relationships/image" Target="../media/image4.png"/><Relationship Id="rId4" Type="http://schemas.openxmlformats.org/officeDocument/2006/relationships/hyperlink" Target="file:///tmp/home/.config/libreoffice/4/user/gallery/BRD_M15.WAV" TargetMode="External"/><Relationship Id="rId5" Type="http://schemas.openxmlformats.org/officeDocument/2006/relationships/image" Target="../media/image5.png"/><Relationship Id="rId6" Type="http://schemas.openxmlformats.org/officeDocument/2006/relationships/hyperlink" Target="file:///tmp/home/.config/libreoffice/4/user/gallery/BRD_P16.WAV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tmp/home/.config/libreoffice/4/user/gallery/BRD_P16.WAV" TargetMode="External"/><Relationship Id="rId3" Type="http://schemas.openxmlformats.org/officeDocument/2006/relationships/image" Target="../media/image16.jpeg"/><Relationship Id="rId4" Type="http://schemas.openxmlformats.org/officeDocument/2006/relationships/hyperlink" Target="file:///tmp/home/.config/libreoffice/4/user/gallery/BRD_M15.WAV" TargetMode="External"/><Relationship Id="rId5" Type="http://schemas.openxmlformats.org/officeDocument/2006/relationships/image" Target="../media/image17.jpeg"/><Relationship Id="rId6" Type="http://schemas.openxmlformats.org/officeDocument/2006/relationships/hyperlink" Target="file:///tmp/home/.config/libreoffice/4/user/gallery/BRD_M15.WAV" TargetMode="External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file:///tmp/home/.config/libreoffice/4/user/gallery/BRD_M15.WAV" TargetMode="External"/><Relationship Id="rId3" Type="http://schemas.openxmlformats.org/officeDocument/2006/relationships/image" Target="../media/image21.jpeg"/><Relationship Id="rId4" Type="http://schemas.openxmlformats.org/officeDocument/2006/relationships/hyperlink" Target="file:///tmp/home/.config/libreoffice/4/user/gallery/BRD_M15.WAV" TargetMode="External"/><Relationship Id="rId5" Type="http://schemas.openxmlformats.org/officeDocument/2006/relationships/image" Target="../media/image22.jpeg"/><Relationship Id="rId6" Type="http://schemas.openxmlformats.org/officeDocument/2006/relationships/hyperlink" Target="file:///tmp/home/.config/libreoffice/4/user/gallery/BRD_P16.WAV" TargetMode="External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08000" y="5562720"/>
            <a:ext cx="889308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игры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звить воображение и глазомер у ребенка, ребенок должен выбрать из трех фрагментов правильный, именно тот, который вырезан из картинки, (при правильном ответе – переход на следующее задание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растная категор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рше 3-х лет, ребенок умеет пользоваться мыш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9480" y="3276720"/>
            <a:ext cx="8001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КАКОГО ФРАГМЕНТА НЕ ХВАТАЕТ НА КАРТИНКЕ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6705720" y="228600"/>
            <a:ext cx="2154240" cy="765000"/>
            <a:chOff x="6705720" y="228600"/>
            <a:chExt cx="2154240" cy="765000"/>
          </a:xfrm>
        </p:grpSpPr>
        <p:sp>
          <p:nvSpPr>
            <p:cNvPr id="44" name="WordArt 5"/>
            <p:cNvSpPr txBox="1"/>
            <p:nvPr/>
          </p:nvSpPr>
          <p:spPr>
            <a:xfrm>
              <a:off x="6705720" y="228600"/>
              <a:ext cx="1754640" cy="76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top">
                <a:avLst>
                  <a:gd name="adj" fmla="val 125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33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Bookman Old Style"/>
                </a:rPr>
                <a:t>Презенташки</a:t>
              </a:r>
              <a:endParaRPr b="1" lang="en-US" sz="18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  <a:ea typeface="Bookman Old Style"/>
              </a:endParaRPr>
            </a:p>
          </p:txBody>
        </p:sp>
        <p:pic>
          <p:nvPicPr>
            <p:cNvPr id="45" name="Picture 6" descr="БАБОЧКИ (233)"/>
            <p:cNvPicPr/>
            <p:nvPr/>
          </p:nvPicPr>
          <p:blipFill>
            <a:blip r:embed="rId1"/>
            <a:stretch/>
          </p:blipFill>
          <p:spPr>
            <a:xfrm>
              <a:off x="8365320" y="398880"/>
              <a:ext cx="494640" cy="4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Rectangle 7"/>
          <p:cNvSpPr/>
          <p:nvPr/>
        </p:nvSpPr>
        <p:spPr>
          <a:xfrm>
            <a:off x="3886920" y="2362320"/>
            <a:ext cx="15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Г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31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212840" cy="1752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2" descr=""/>
          <p:cNvPicPr/>
          <p:nvPr/>
        </p:nvPicPr>
        <p:blipFill>
          <a:blip r:embed="rId3"/>
          <a:stretch/>
        </p:blipFill>
        <p:spPr>
          <a:xfrm>
            <a:off x="1523880" y="1371600"/>
            <a:ext cx="685800" cy="639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3" descr=""/>
          <p:cNvPicPr/>
          <p:nvPr/>
        </p:nvPicPr>
        <p:blipFill>
          <a:blip r:embed="rId4"/>
          <a:stretch/>
        </p:blipFill>
        <p:spPr>
          <a:xfrm>
            <a:off x="2286000" y="838080"/>
            <a:ext cx="685800" cy="654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4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1523880" y="228600"/>
            <a:ext cx="685800" cy="6415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229"/>
          <p:cNvSpPr/>
          <p:nvPr/>
        </p:nvSpPr>
        <p:spPr>
          <a:xfrm rot="2115000">
            <a:off x="1447560" y="2590920"/>
            <a:ext cx="380880" cy="228600"/>
          </a:xfrm>
          <a:prstGeom prst="leftArrow">
            <a:avLst>
              <a:gd name="adj1" fmla="val 35639"/>
              <a:gd name="adj2" fmla="val 1345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Запи2646.WAV" descr=""/>
          <p:cNvPicPr/>
          <p:nvPr/>
        </p:nvPicPr>
        <p:blipFill>
          <a:blip r:embed="rId6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2.59259E-006 C 0.00364 -0.00116 0.00746 -0.00254 0.0111 -0.0037 C 0.01267 -0.00416 0.01388 -0.00625 0.01527 -0.00741 C 0.021 -0.0118 0.0203 -0.01088 0.02638 -0.01296 C 0.03385 -0.02037 0.04496 -0.02569 0.05416 -0.02778 C 0.06336 -0.03403 0.06996 -0.04375 0.07916 -0.05 C 0.08107 -0.05995 0.08593 -0.06273 0.09027 -0.07222 C 0.09496 -0.08264 0.09461 -0.09467 0.0986 -0.10555 C 0.10173 -0.12616 0.10173 -0.17153 0.09305 -0.19074 C 0.09079 -0.20602 0.08923 -0.21666 0.08333 -0.22963 C 0.08159 -0.23889 0.07864 -0.24884 0.0736 -0.25555 C 0.071 -0.26597 0.06718 -0.26967 0.0611 -0.27778 C 0.0578 -0.28217 0.05833 -0.28565 0.05555 -0.29074 C 0.04999 -0.30116 0.05225 -0.29097 0.0486 -0.3037 C 0.04791 -0.30602 0.04826 -0.30903 0.04721 -0.31111 C 0.04635 -0.31296 0.04426 -0.31342 0.04305 -0.31481 C 0.0401 -0.31829 0.03749 -0.32222 0.03471 -0.32592 C 0.03246 -0.32893 0.02829 -0.32592 0.02499 -0.32592 E">
                                      <p:cBhvr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295880" cy="6172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2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152280"/>
            <a:ext cx="2286000" cy="2103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3" name="Picture 4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29200" y="4678200"/>
            <a:ext cx="2286000" cy="2103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4" name="Picture 5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77120" y="2405160"/>
            <a:ext cx="2209680" cy="2090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Бемби 01"/>
          <p:cNvPicPr/>
          <p:nvPr/>
        </p:nvPicPr>
        <p:blipFill>
          <a:blip r:embed="rId1"/>
          <a:stretch/>
        </p:blipFill>
        <p:spPr>
          <a:xfrm>
            <a:off x="4419720" y="380880"/>
            <a:ext cx="415440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Text Box 5"/>
          <p:cNvSpPr/>
          <p:nvPr/>
        </p:nvSpPr>
        <p:spPr>
          <a:xfrm rot="19392600">
            <a:off x="-1408680" y="285696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МНИЦА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an1_vorobej"/>
          <p:cNvPicPr/>
          <p:nvPr/>
        </p:nvPicPr>
        <p:blipFill>
          <a:blip r:embed="rId2"/>
          <a:stretch/>
        </p:blipFill>
        <p:spPr>
          <a:xfrm>
            <a:off x="762120" y="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0139 L 0.79896 -0.00139 E">
                                      <p:cBhvr>
                                        <p:cTn id="4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2287440"/>
            <a:ext cx="2286000" cy="220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76320"/>
            <a:ext cx="2286000" cy="213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5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4603680"/>
            <a:ext cx="2286000" cy="217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Picture 6" descr=""/>
          <p:cNvPicPr/>
          <p:nvPr/>
        </p:nvPicPr>
        <p:blipFill>
          <a:blip r:embed="rId7"/>
          <a:stretch/>
        </p:blipFill>
        <p:spPr>
          <a:xfrm>
            <a:off x="4572000" y="380880"/>
            <a:ext cx="420048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Буратино 02"/>
          <p:cNvPicPr/>
          <p:nvPr/>
        </p:nvPicPr>
        <p:blipFill>
          <a:blip r:embed="rId1"/>
          <a:stretch/>
        </p:blipFill>
        <p:spPr>
          <a:xfrm>
            <a:off x="4419720" y="609480"/>
            <a:ext cx="399564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Text Box 3"/>
          <p:cNvSpPr/>
          <p:nvPr/>
        </p:nvSpPr>
        <p:spPr>
          <a:xfrm rot="19392600">
            <a:off x="-1408680" y="285696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ЕЦ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an1_vorobej"/>
          <p:cNvPicPr/>
          <p:nvPr/>
        </p:nvPicPr>
        <p:blipFill>
          <a:blip r:embed="rId2"/>
          <a:stretch/>
        </p:blipFill>
        <p:spPr>
          <a:xfrm>
            <a:off x="762120" y="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0139 L 0.79896 -0.00139 E">
                                      <p:cBhvr>
                                        <p:cTn id="5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938920" cy="410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Picture 8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4572000"/>
            <a:ext cx="2210040" cy="204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Picture 9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4572000"/>
            <a:ext cx="2162160" cy="204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Picture 10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81280" y="4572000"/>
            <a:ext cx="2210040" cy="204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066680" y="601992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ИЛЬНО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Бемби 04"/>
          <p:cNvPicPr/>
          <p:nvPr/>
        </p:nvPicPr>
        <p:blipFill>
          <a:blip r:embed="rId1"/>
          <a:stretch/>
        </p:blipFill>
        <p:spPr>
          <a:xfrm>
            <a:off x="1219320" y="1143000"/>
            <a:ext cx="675792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Picture 5" descr="an1_vorobej"/>
          <p:cNvPicPr/>
          <p:nvPr/>
        </p:nvPicPr>
        <p:blipFill>
          <a:blip r:embed="rId2"/>
          <a:stretch/>
        </p:blipFill>
        <p:spPr>
          <a:xfrm>
            <a:off x="762120" y="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51445E-007 L 0.79167 -7.51445E-007 E">
                                      <p:cBhvr>
                                        <p:cTn id="5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4572000"/>
            <a:ext cx="2210040" cy="204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4572000"/>
            <a:ext cx="2133720" cy="202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8" descr=""/>
          <p:cNvPicPr/>
          <p:nvPr/>
        </p:nvPicPr>
        <p:blipFill>
          <a:blip r:embed="rId5"/>
          <a:stretch/>
        </p:blipFill>
        <p:spPr>
          <a:xfrm>
            <a:off x="1752480" y="152280"/>
            <a:ext cx="5902560" cy="410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Picture 9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62120" y="4648320"/>
            <a:ext cx="2209680" cy="200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Бременские музыканты 02"/>
          <p:cNvPicPr/>
          <p:nvPr/>
        </p:nvPicPr>
        <p:blipFill>
          <a:blip r:embed="rId1"/>
          <a:stretch/>
        </p:blipFill>
        <p:spPr>
          <a:xfrm>
            <a:off x="1371600" y="1143000"/>
            <a:ext cx="6754680" cy="467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Text Box 3"/>
          <p:cNvSpPr/>
          <p:nvPr/>
        </p:nvSpPr>
        <p:spPr>
          <a:xfrm>
            <a:off x="1066680" y="601992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РНО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an1_vorobej"/>
          <p:cNvPicPr/>
          <p:nvPr/>
        </p:nvPicPr>
        <p:blipFill>
          <a:blip r:embed="rId2"/>
          <a:stretch/>
        </p:blipFill>
        <p:spPr>
          <a:xfrm>
            <a:off x="762120" y="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51445E-007 L 0.79167 -7.51445E-007 E">
                                      <p:cBhvr>
                                        <p:cTn id="62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5867640" cy="411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4495680"/>
            <a:ext cx="2209680" cy="211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Picture 8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81280" y="4495680"/>
            <a:ext cx="2210040" cy="2133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72200" y="4495680"/>
            <a:ext cx="2209680" cy="20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Винни Пух 02"/>
          <p:cNvPicPr/>
          <p:nvPr/>
        </p:nvPicPr>
        <p:blipFill>
          <a:blip r:embed="rId1"/>
          <a:stretch/>
        </p:blipFill>
        <p:spPr>
          <a:xfrm>
            <a:off x="1219320" y="1143000"/>
            <a:ext cx="6737400" cy="46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Text Box 3"/>
          <p:cNvSpPr/>
          <p:nvPr/>
        </p:nvSpPr>
        <p:spPr>
          <a:xfrm>
            <a:off x="1066680" y="601992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МНИЦА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n1_vorobej"/>
          <p:cNvPicPr/>
          <p:nvPr/>
        </p:nvPicPr>
        <p:blipFill>
          <a:blip r:embed="rId2"/>
          <a:stretch/>
        </p:blipFill>
        <p:spPr>
          <a:xfrm>
            <a:off x="762120" y="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51445E-007 L 0.79167 -7.51445E-007 E">
                                      <p:cBhvr>
                                        <p:cTn id="6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676520" y="152280"/>
            <a:ext cx="6257880" cy="4318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Picture 5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648320"/>
            <a:ext cx="2057400" cy="179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" name="Picture 6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33920" y="4648320"/>
            <a:ext cx="2133360" cy="1819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" name="Picture 7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77120" y="4724280"/>
            <a:ext cx="1828800" cy="1720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152280"/>
            <a:ext cx="2286000" cy="214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Picture 4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2362320"/>
            <a:ext cx="2286000" cy="219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Picture 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29400" y="4649760"/>
            <a:ext cx="2286000" cy="213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Picture 6" descr=""/>
          <p:cNvPicPr/>
          <p:nvPr/>
        </p:nvPicPr>
        <p:blipFill>
          <a:blip r:embed="rId7"/>
          <a:stretch/>
        </p:blipFill>
        <p:spPr>
          <a:xfrm>
            <a:off x="412920" y="228600"/>
            <a:ext cx="431136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Вовка в тридевятом царстве 01"/>
          <p:cNvPicPr/>
          <p:nvPr/>
        </p:nvPicPr>
        <p:blipFill>
          <a:blip r:embed="rId1"/>
          <a:stretch/>
        </p:blipFill>
        <p:spPr>
          <a:xfrm>
            <a:off x="457200" y="228600"/>
            <a:ext cx="436392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Text Box 3"/>
          <p:cNvSpPr/>
          <p:nvPr/>
        </p:nvSpPr>
        <p:spPr>
          <a:xfrm rot="19392600">
            <a:off x="3048840" y="2742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А-УРА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an1_vorobej"/>
          <p:cNvPicPr/>
          <p:nvPr/>
        </p:nvPicPr>
        <p:blipFill>
          <a:blip r:embed="rId2"/>
          <a:stretch/>
        </p:blipFill>
        <p:spPr>
          <a:xfrm>
            <a:off x="762120" y="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51445E-007 L 0.79167 -7.51445E-007 E">
                                      <p:cBhvr>
                                        <p:cTn id="74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152280"/>
            <a:ext cx="2209680" cy="20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648320"/>
            <a:ext cx="2210040" cy="207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Picture 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0600" y="2362320"/>
            <a:ext cx="2209680" cy="213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Picture 6" descr=""/>
          <p:cNvPicPr/>
          <p:nvPr/>
        </p:nvPicPr>
        <p:blipFill>
          <a:blip r:embed="rId7"/>
          <a:stretch/>
        </p:blipFill>
        <p:spPr>
          <a:xfrm>
            <a:off x="304920" y="380880"/>
            <a:ext cx="4106880" cy="586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 rot="19392600">
            <a:off x="2896200" y="319968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ЕЦ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Доктор Айболит 03"/>
          <p:cNvPicPr/>
          <p:nvPr/>
        </p:nvPicPr>
        <p:blipFill>
          <a:blip r:embed="rId1"/>
          <a:stretch/>
        </p:blipFill>
        <p:spPr>
          <a:xfrm>
            <a:off x="380880" y="304920"/>
            <a:ext cx="431172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9" name="Picture 5" descr="an1_vorobej"/>
          <p:cNvPicPr/>
          <p:nvPr/>
        </p:nvPicPr>
        <p:blipFill>
          <a:blip r:embed="rId2"/>
          <a:stretch/>
        </p:blipFill>
        <p:spPr>
          <a:xfrm>
            <a:off x="762120" y="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51445E-007 L 0.79167 -7.51445E-007 E">
                                      <p:cBhvr>
                                        <p:cTn id="80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586764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4495680"/>
            <a:ext cx="220968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4495680"/>
            <a:ext cx="2209680" cy="2133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14400" y="4495680"/>
            <a:ext cx="22096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Дюймовочка 06"/>
          <p:cNvPicPr/>
          <p:nvPr/>
        </p:nvPicPr>
        <p:blipFill>
          <a:blip r:embed="rId1"/>
          <a:stretch/>
        </p:blipFill>
        <p:spPr>
          <a:xfrm>
            <a:off x="1143000" y="1219320"/>
            <a:ext cx="6737400" cy="46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Text Box 3"/>
          <p:cNvSpPr/>
          <p:nvPr/>
        </p:nvSpPr>
        <p:spPr>
          <a:xfrm>
            <a:off x="1066680" y="601992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ИЛЬНО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an1_vorobej"/>
          <p:cNvPicPr/>
          <p:nvPr/>
        </p:nvPicPr>
        <p:blipFill>
          <a:blip r:embed="rId2"/>
          <a:stretch/>
        </p:blipFill>
        <p:spPr>
          <a:xfrm>
            <a:off x="762120" y="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51445E-007 L 0.79167 -7.51445E-007 E">
                                      <p:cBhvr>
                                        <p:cTn id="86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1143000" y="2666880"/>
            <a:ext cx="7391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6699ff"/>
                    </a:gs>
                    <a:gs pos="100000">
                      <a:srgbClr val="ffffff"/>
                    </a:gs>
                  </a:gsLst>
                  <a:lin ang="2700000"/>
                </a:gradFill>
                <a:latin typeface="Impact"/>
              </a:rPr>
              <a:t>КОНЕЦ!!!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6699ff"/>
                  </a:gs>
                  <a:gs pos="100000">
                    <a:srgbClr val="ffffff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547640" y="6066000"/>
            <a:ext cx="619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1" descr="an1_vorobej"/>
          <p:cNvPicPr/>
          <p:nvPr/>
        </p:nvPicPr>
        <p:blipFill>
          <a:blip r:embed="rId1"/>
          <a:stretch/>
        </p:blipFill>
        <p:spPr>
          <a:xfrm>
            <a:off x="152280" y="12952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2" descr="an1_vorobej"/>
          <p:cNvPicPr/>
          <p:nvPr/>
        </p:nvPicPr>
        <p:blipFill>
          <a:blip r:embed="rId2"/>
          <a:stretch/>
        </p:blipFill>
        <p:spPr>
          <a:xfrm flipH="1">
            <a:off x="7943400" y="12952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141" name="Запи2724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3"/>
          <p:cNvSpPr/>
          <p:nvPr/>
        </p:nvSpPr>
        <p:spPr>
          <a:xfrm>
            <a:off x="3352680" y="22860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9.82659E-007 L -0.30833 9.82659E-007 E">
                                      <p:cBhvr>
                                        <p:cTn id="9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71676E-006 L 0.38334 2.71676E-006 E">
                                      <p:cBhvr>
                                        <p:cTn id="9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Незнайка 01"/>
          <p:cNvPicPr/>
          <p:nvPr/>
        </p:nvPicPr>
        <p:blipFill>
          <a:blip r:embed="rId1"/>
          <a:stretch/>
        </p:blipFill>
        <p:spPr>
          <a:xfrm>
            <a:off x="1066680" y="914400"/>
            <a:ext cx="6755040" cy="46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Text Box 5"/>
          <p:cNvSpPr/>
          <p:nvPr/>
        </p:nvSpPr>
        <p:spPr>
          <a:xfrm>
            <a:off x="1066680" y="609588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ИЛЬНО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an1_vorobej"/>
          <p:cNvPicPr/>
          <p:nvPr/>
        </p:nvPicPr>
        <p:blipFill>
          <a:blip r:embed="rId2"/>
          <a:stretch/>
        </p:blipFill>
        <p:spPr>
          <a:xfrm>
            <a:off x="762120" y="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51445E-007 L 0.79167 -7.51445E-007 E">
                                      <p:cBhvr>
                                        <p:cTn id="2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953160" cy="5715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1" name="Picture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29400" y="2438280"/>
            <a:ext cx="2133720" cy="1990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2" name="Picture 6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76920" y="304920"/>
            <a:ext cx="2133360" cy="2033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3" name="Picture 7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76920" y="4572000"/>
            <a:ext cx="2133360" cy="1992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Попугай Кеша 05"/>
          <p:cNvPicPr/>
          <p:nvPr/>
        </p:nvPicPr>
        <p:blipFill>
          <a:blip r:embed="rId1"/>
          <a:stretch/>
        </p:blipFill>
        <p:spPr>
          <a:xfrm>
            <a:off x="685800" y="304920"/>
            <a:ext cx="431172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Text Box 8"/>
          <p:cNvSpPr/>
          <p:nvPr/>
        </p:nvSpPr>
        <p:spPr>
          <a:xfrm rot="17550000">
            <a:off x="3163320" y="300924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ЕЦ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an1_vorobej"/>
          <p:cNvPicPr/>
          <p:nvPr/>
        </p:nvPicPr>
        <p:blipFill>
          <a:blip r:embed="rId2"/>
          <a:stretch/>
        </p:blipFill>
        <p:spPr>
          <a:xfrm>
            <a:off x="5105520" y="152280"/>
            <a:ext cx="1047600" cy="10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51445E-007 L 0.79167 -7.51445E-007 E">
                                      <p:cBhvr>
                                        <p:cTn id="2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2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626904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Picture 9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92360" y="4572000"/>
            <a:ext cx="2222640" cy="214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36800" y="4572000"/>
            <a:ext cx="2315880" cy="2147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4557600"/>
            <a:ext cx="2284560" cy="21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Маугли 03"/>
          <p:cNvPicPr/>
          <p:nvPr/>
        </p:nvPicPr>
        <p:blipFill>
          <a:blip r:embed="rId1"/>
          <a:stretch/>
        </p:blipFill>
        <p:spPr>
          <a:xfrm>
            <a:off x="1246320" y="914400"/>
            <a:ext cx="6754680" cy="4678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2" name="Text Box 5"/>
          <p:cNvSpPr/>
          <p:nvPr/>
        </p:nvSpPr>
        <p:spPr>
          <a:xfrm>
            <a:off x="1066680" y="609588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РНО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an1_vorobej"/>
          <p:cNvPicPr/>
          <p:nvPr/>
        </p:nvPicPr>
        <p:blipFill>
          <a:blip r:embed="rId2"/>
          <a:stretch/>
        </p:blipFill>
        <p:spPr>
          <a:xfrm>
            <a:off x="762120" y="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51445E-007 L 0.79167 -7.51445E-007 E">
                                      <p:cBhvr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791320" cy="4010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5" name="Picture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4419720"/>
            <a:ext cx="2133720" cy="2030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6" name="Picture 6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81280" y="4572000"/>
            <a:ext cx="2133720" cy="1938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7" name="Picture 7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00800" y="4572000"/>
            <a:ext cx="2209680" cy="2073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Львенок и черепаха 05"/>
          <p:cNvPicPr/>
          <p:nvPr/>
        </p:nvPicPr>
        <p:blipFill>
          <a:blip r:embed="rId1"/>
          <a:stretch/>
        </p:blipFill>
        <p:spPr>
          <a:xfrm>
            <a:off x="1066680" y="914400"/>
            <a:ext cx="6755040" cy="4676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9" name="Text Box 3"/>
          <p:cNvSpPr/>
          <p:nvPr/>
        </p:nvSpPr>
        <p:spPr>
          <a:xfrm>
            <a:off x="1066680" y="601992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А-УРА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an1_vorobej"/>
          <p:cNvPicPr/>
          <p:nvPr/>
        </p:nvPicPr>
        <p:blipFill>
          <a:blip r:embed="rId2"/>
          <a:stretch/>
        </p:blipFill>
        <p:spPr>
          <a:xfrm>
            <a:off x="762120" y="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51445E-007 L 0.79167 -7.51445E-007 E">
                                      <p:cBhvr>
                                        <p:cTn id="38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20-05-05T11:22:15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